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864773"/>
        <c:axId val="66518922"/>
      </c:barChart>
      <c:catAx>
        <c:axId val="258647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18922"/>
        <c:crosses val="autoZero"/>
        <c:auto val="1"/>
        <c:lblAlgn val="ctr"/>
        <c:lblOffset val="100"/>
        <c:noMultiLvlLbl val="0"/>
      </c:catAx>
      <c:valAx>
        <c:axId val="665189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8647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6744-313A-4403-A9D2-2BEADEAFD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E87F-0A7F-4E66-988C-551AA9B2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EC98-58B8-4250-9250-00E25F325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1E15-1DD2-4A1C-A568-71A602BB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EE62-75EF-4EE6-B532-D925EC7B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8AF6-055A-4FC2-97D5-480C80E7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F093-A7C4-4678-B7EF-E9925F7A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B8D9-2832-46DC-8366-DEDF03F6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1C1F-E343-48DD-9CA3-379F1514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3CCE-5014-45DF-8594-FAF60378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0A5A-6E40-4B97-BF74-58B04320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449A-AB46-4F5A-8A8D-F830063F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52724-5E45-4312-A6D2-282E74B48B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