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82033"/>
        <c:axId val="69501981"/>
      </c:barChart>
      <c:catAx>
        <c:axId val="76582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01981"/>
        <c:crosses val="autoZero"/>
        <c:auto val="1"/>
        <c:lblAlgn val="ctr"/>
        <c:lblOffset val="100"/>
        <c:noMultiLvlLbl val="0"/>
      </c:catAx>
      <c:valAx>
        <c:axId val="69501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82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AAF-2F1F-4202-B96E-C07D8D72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2D4-54DB-4A57-8BCC-4B229D2D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561-2550-4624-9FF7-47593556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980-4054-467B-AF79-881593FA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ACC-1728-420E-95B8-992A23EB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738-58F0-4ABF-B1A7-B683B684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E49-F668-4882-B7C6-6D391616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4FB-58D9-400D-8CCE-8DB7AB51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A4B-B1B7-4E00-92BE-DA129046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4BF-6DA8-4AA4-8570-A22BA121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B8C-409E-4EEF-8505-F96C9933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C8A-2C91-439E-9D29-7155790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43691-55BE-4418-8D3A-212BB0B9E8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