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742119"/>
        <c:axId val="4214962"/>
      </c:barChart>
      <c:catAx>
        <c:axId val="497421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4962"/>
        <c:crosses val="autoZero"/>
        <c:auto val="1"/>
        <c:lblAlgn val="ctr"/>
        <c:lblOffset val="100"/>
        <c:noMultiLvlLbl val="0"/>
      </c:catAx>
      <c:valAx>
        <c:axId val="42149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421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C2C6-6F79-4B1A-A616-E8E6B6AB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ED7B-F3DB-46CE-BECA-AEEED795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0C71-B55B-4DE4-A0D4-9E550E2A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B998-0B24-4CD9-A371-FC4CB3ED3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E68C-9824-4967-9038-C837AE40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6E97-3CEE-4B54-AF9C-69B32FE4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FBB4-4629-4E86-A2CF-AC454494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AD2D-E999-4C39-9C11-5DBD97A7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FD40-4EFC-4CB8-AECF-375D2630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B499-B5FC-425D-B226-7BF498C1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5471-8A11-44DD-AE2C-FAB881F2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1B1B-8DDF-4634-BFE1-E0C72801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65A57-D16A-4116-B28F-E1F24D5C9D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