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30785"/>
        <c:axId val="72572781"/>
      </c:barChart>
      <c:catAx>
        <c:axId val="73130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72781"/>
        <c:crosses val="autoZero"/>
        <c:auto val="1"/>
        <c:lblAlgn val="ctr"/>
        <c:lblOffset val="100"/>
        <c:noMultiLvlLbl val="0"/>
      </c:catAx>
      <c:valAx>
        <c:axId val="72572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0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804-7670-4010-9EB4-05F5F049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C77-ABB7-4076-B0A4-12D2084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4D1-D7E0-442E-B887-4B0F46BD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D5C-BEF6-4263-961B-B196EAB5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CA4-4843-4D03-AB68-D8B809B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108-BA0D-4B18-9C32-CC75989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06C-2E9A-4263-8D6B-580C80E6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459-586A-4733-85AF-A44315F0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DB1-0548-4BA6-A75B-45AD0C9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FF2-0F33-455B-9A5F-505E371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D48-E6FD-4866-B100-19BD3AC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265-0A70-4DD1-9916-E97416C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A26F-B401-446B-AFA3-487C2357CE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