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77502"/>
        <c:axId val="78789322"/>
      </c:barChart>
      <c:catAx>
        <c:axId val="27077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89322"/>
        <c:crosses val="autoZero"/>
        <c:auto val="1"/>
        <c:lblAlgn val="ctr"/>
        <c:lblOffset val="100"/>
        <c:noMultiLvlLbl val="0"/>
      </c:catAx>
      <c:valAx>
        <c:axId val="78789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77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197-B205-49C0-A182-E4F863C6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3DD-16C0-4632-97AC-D43A7159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4F1-4FAC-401D-A737-4A1F93B4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9DF-62BD-4F41-81D3-A29C571C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F25-A953-46FC-B6A2-1409C80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12F-4F48-4C59-AA26-B69C1869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E9-0035-47BE-8FC8-12F7962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067-F7BC-4D86-9DBC-FE769243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561-CD02-4FD8-B3C8-D728388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7CC-B028-4E59-9823-64D1006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832-E161-48AF-A50C-F9C600A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5B3-24F8-4612-BFF8-A0C7B44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E86B4-B6A5-4C6A-A6CC-258465134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