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05498"/>
        <c:axId val="75772699"/>
      </c:barChart>
      <c:catAx>
        <c:axId val="45905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2699"/>
        <c:crosses val="autoZero"/>
        <c:auto val="1"/>
        <c:lblAlgn val="ctr"/>
        <c:lblOffset val="100"/>
        <c:noMultiLvlLbl val="0"/>
      </c:catAx>
      <c:valAx>
        <c:axId val="75772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05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71C-8328-4477-B032-A69C2B3B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12E-6C0D-4472-810F-56452C09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83E-1694-479F-940D-26FEF28B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FD5-0A35-442E-B3E5-2DA8D51B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0E2-1F59-418C-A239-864C27A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A68-D984-41C1-9239-F7AA6260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34B-519C-4DB5-8470-B820279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353-FB10-4F17-A29E-0455BB1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735-CC58-455F-BF11-2B9D9F6A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889-8B02-409A-A0C9-8E4DB69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647-9AED-4646-8FC0-B6BAF72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433-3D9E-442F-AB02-FD799F3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780D3-3CA2-46A2-B4F3-54D100874A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