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9280029"/>
        <c:axId val="13737633"/>
      </c:barChart>
      <c:catAx>
        <c:axId val="7928002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737633"/>
        <c:crosses val="autoZero"/>
        <c:auto val="1"/>
        <c:lblAlgn val="ctr"/>
        <c:lblOffset val="100"/>
        <c:noMultiLvlLbl val="0"/>
      </c:catAx>
      <c:valAx>
        <c:axId val="1373763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28002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AA732-9C35-4D05-909E-5AE221105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2EB96-8997-4A3A-8233-633BC03A6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BFD23-270E-4D44-986B-70B31EEBA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64594-25AE-468C-B7FD-B56D5CEB5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ABE9B-9D12-4E2C-864A-A4297D74C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FD723-7DD7-4ADD-8065-EA66200E5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7DA8C-19CC-4319-95EA-321429ACD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1A4DF-2610-4F63-B9C8-5B6871DCD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28DF1-4F95-4460-856C-A8D32981B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C9AFF-C198-4C72-84DE-56845CA5A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E88CA-2A0D-4E60-9508-245D4A025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6B687-30FE-4691-B8FC-7745CDC7B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FB64C7-3584-41B8-B8ED-2FADD546EFD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