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10755"/>
        <c:axId val="12357486"/>
      </c:barChart>
      <c:catAx>
        <c:axId val="562107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57486"/>
        <c:crosses val="autoZero"/>
        <c:auto val="1"/>
        <c:lblAlgn val="ctr"/>
        <c:lblOffset val="100"/>
        <c:noMultiLvlLbl val="0"/>
      </c:catAx>
      <c:valAx>
        <c:axId val="123574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107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86A-FB66-4D82-9548-5C606C5F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966-583D-431B-A7A0-1C4495FF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120-968B-4756-8123-33B1784E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C4D-5A25-417F-B631-F08E8587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E30-8676-40B4-A11E-3EAA1EFA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291-6C04-4B03-B86D-CDCBF4CC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A067-6A04-4295-98F6-50EB9FD7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A22-15B6-4DB2-B05F-4CF89401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BFB-A891-4F5E-879B-D31CA298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DF4-0659-4A01-A3DA-8272B449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4B1-4B11-484C-96B9-A5A209E8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F8D9-5E15-49B6-A321-9501842E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C31F9-4341-40E3-B665-A76EAFDDE6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