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71010"/>
        <c:axId val="87704537"/>
      </c:barChart>
      <c:catAx>
        <c:axId val="642710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04537"/>
        <c:crosses val="autoZero"/>
        <c:auto val="1"/>
        <c:lblAlgn val="ctr"/>
        <c:lblOffset val="100"/>
        <c:noMultiLvlLbl val="0"/>
      </c:catAx>
      <c:valAx>
        <c:axId val="87704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710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D4C0-408B-4B8B-910F-D75FD07D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EE5-E8A4-4B31-BCBF-EB15A10D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679-7F3E-4D9F-91E1-E08579FE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BE7-DF98-40E9-ACED-74C5AF19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4186-88DC-49D0-A603-44D7405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322-C264-4D68-A2E8-E2BEB7DB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6FC3-BC26-45B0-B580-72828170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2EBC-9D26-4C37-B936-AC0700D7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7267-8FB5-4B9B-973E-FDC6F18D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D255-43E7-4FED-8B27-1283D712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8586-D69E-4659-8FB4-95152430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8EC1-1214-4715-885A-897524B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2E8E3-6B42-4F71-9589-B3EA929841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