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7463"/>
        <c:axId val="48298400"/>
      </c:barChart>
      <c:catAx>
        <c:axId val="51867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8400"/>
        <c:crosses val="autoZero"/>
        <c:auto val="1"/>
        <c:lblAlgn val="ctr"/>
        <c:lblOffset val="100"/>
        <c:noMultiLvlLbl val="0"/>
      </c:catAx>
      <c:valAx>
        <c:axId val="48298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7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6E6-8F72-40A8-86D0-095EDFF1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FA-7106-49F6-BF85-7C78EEE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E85-7A56-4342-8667-D634638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70D-DFEB-44C8-9FAB-1FBFA520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C25-1A49-4BF9-B74E-C4FA5DD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F62-4C6A-48D4-92CB-54ADD71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813-7A23-4A37-AC3B-5755C323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10A-0441-4592-9BAE-2D943C99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F90-C187-47D8-9E2D-F591D1A4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53-BA28-45B7-BB2A-E2F0E3CB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13B-CA81-4C35-B9B6-047C21C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6CD-BD5E-43E7-B624-28B08A8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62B1-484D-4B6E-ADAE-E095F9C05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