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306325"/>
        <c:axId val="97165431"/>
      </c:barChart>
      <c:catAx>
        <c:axId val="743063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165431"/>
        <c:crosses val="autoZero"/>
        <c:auto val="1"/>
        <c:lblAlgn val="ctr"/>
        <c:lblOffset val="100"/>
        <c:noMultiLvlLbl val="0"/>
      </c:catAx>
      <c:valAx>
        <c:axId val="971654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3063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311D-0B65-4737-9075-89D50F743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7FD9-1ECD-4F36-95A2-54419BBD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45F3-788B-47E3-94D3-F8E232129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7981-EAB4-43A4-9BB4-B36A0E51D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C93D-413F-4749-8462-1387D8FC1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6348-8DCB-4D20-B5C6-177D957A5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F46F-0FB0-43CD-80C5-665DCFEF9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EE77-FDCA-49EC-B120-A87B3873A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C958-ACB4-4CFD-8970-C96685E59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EDA4-44F4-4ED2-82BC-ACC667F4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B863-A0AA-465D-9CCF-6FD65A29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2F19-5C64-4752-BDF9-97D1CAD5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97D418-2D64-45C5-B0EA-F4CB322B86A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