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97750"/>
        <c:axId val="1090235"/>
      </c:barChart>
      <c:catAx>
        <c:axId val="53897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235"/>
        <c:crosses val="autoZero"/>
        <c:auto val="1"/>
        <c:lblAlgn val="ctr"/>
        <c:lblOffset val="100"/>
        <c:noMultiLvlLbl val="0"/>
      </c:catAx>
      <c:valAx>
        <c:axId val="1090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7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D5F-D928-471D-AF84-56D53642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49A-D310-4105-A814-95256EA5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668-6B51-4D3C-8CC0-088DE2A0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2C6-C0E2-4658-8DBC-B0732FD2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3DC-9B50-4FAA-BD66-AAEE532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A38-0C88-4111-B0F8-CAE50020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D4B-58BE-47FA-AB2A-4DA2996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EA1-7A27-4FBF-BE25-C000A279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311-8779-4621-A6FE-7B32CF6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F90-43C2-4765-B90D-6E03664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024-82BF-4387-82F2-7AEF376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946-F804-40B0-98E5-7CE5342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29CFB-634F-438C-A042-27CB75419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