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51180"/>
        <c:axId val="44026094"/>
      </c:barChart>
      <c:catAx>
        <c:axId val="58251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6094"/>
        <c:crosses val="autoZero"/>
        <c:auto val="1"/>
        <c:lblAlgn val="ctr"/>
        <c:lblOffset val="100"/>
        <c:noMultiLvlLbl val="0"/>
      </c:catAx>
      <c:valAx>
        <c:axId val="44026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51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587-C77E-49FA-8F8F-4381BA36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1C7-DCC2-4F5A-A262-939BC3C9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521-0E8F-4F58-8988-A3048513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C5E3-C479-41CF-BD8D-42FBA84F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DBA-F6FF-4C1E-81F1-EF558C9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4C9-A304-4191-9159-02DDA5B0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185-54CE-4B2E-9F12-C943FDBF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8C8-153B-4203-B780-2C83429A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C0A-4BB0-4658-92C8-F58C92E4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FC4-9A02-4F5B-9557-58B465E5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77B-EF1A-42C1-B719-0E7B88E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AAE-69CC-4FFD-8D38-D498FB9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F1A2E-735A-439A-B459-EE84166B23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