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376"/>
        <c:axId val="18137893"/>
      </c:barChart>
      <c:catAx>
        <c:axId val="6817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37893"/>
        <c:crosses val="autoZero"/>
        <c:auto val="1"/>
        <c:lblAlgn val="ctr"/>
        <c:lblOffset val="100"/>
        <c:noMultiLvlLbl val="0"/>
      </c:catAx>
      <c:valAx>
        <c:axId val="18137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BA1-8BBD-45F1-B063-2CEC2F09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FBD-07FE-4B38-A1FB-EED74B8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BED-6289-4FC3-A3F2-A0C75B7A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5BD-11CB-4483-B5AF-6BDB30ED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353-3322-46E6-B2BC-8494F93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FA2-4F7F-4C51-9765-9C1E253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2EB-81E2-4863-B12E-9848F03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1AF-8A4E-4F8F-A9BE-233D3457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ABF-0DFE-414D-B2E3-CE14982E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663-07CB-4AC6-9D76-877F054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4AE-CBE1-43C8-80E2-7D5E7B0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252-705F-46CD-9E1E-504C9AE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D978-F39D-4CBA-8503-A1D0D077A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