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6443202"/>
        <c:axId val="18109874"/>
      </c:barChart>
      <c:catAx>
        <c:axId val="6644320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109874"/>
        <c:crosses val="autoZero"/>
        <c:auto val="1"/>
        <c:lblAlgn val="ctr"/>
        <c:lblOffset val="100"/>
        <c:noMultiLvlLbl val="0"/>
      </c:catAx>
      <c:valAx>
        <c:axId val="1810987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44320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4A1C-50E0-4C48-ACE1-8A021467B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CD79-4D28-4159-962B-195FCF93E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254C-1076-4FA3-ABAC-8396F088A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3432-6AE2-407D-A738-F06A60A04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D431-70ED-435D-8E55-CDABFA294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5EAA-63D0-4285-84EB-A32256D14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ECC4-DACC-4590-890F-7BB094640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8CB2-A155-450E-A14D-DDA60ED52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3DB9-5DBC-439D-8E4E-02F4FB277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6B40-316E-4297-AF8B-1A513FB2C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A7FB-BA6A-45F8-9774-05586E985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832B-D4A4-4735-AA60-CC72ED01C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462DC3-B868-4D5E-937B-86DE1EA1B1B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