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326"/>
        <c:axId val="3964597"/>
      </c:barChart>
      <c:catAx>
        <c:axId val="928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4597"/>
        <c:crosses val="autoZero"/>
        <c:auto val="1"/>
        <c:lblAlgn val="ctr"/>
        <c:lblOffset val="100"/>
        <c:noMultiLvlLbl val="0"/>
      </c:catAx>
      <c:valAx>
        <c:axId val="3964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224-7FB2-4AC0-A339-23DA8166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E9E-3AB4-4434-B802-B1EB3C0F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E49-7470-4946-AB00-F1A8CD6B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451-85E6-445D-A1A3-0B1F3EFC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16F-67FE-461F-8D5B-9D0E702B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599-501D-4CBE-89DB-AECF3D0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BC0-F920-409F-BBEE-35631370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970-62AD-450A-BB1F-1F4F949C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6DD-5FA8-4DF8-9766-731C69EB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44F-9621-4A8E-ADE5-1A11808C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AB3-56B4-40A7-BB31-695CEF5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8F1-60FE-4770-A098-0E04B356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F73F0-11DA-4D81-A9CE-4D33312C21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