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48714"/>
        <c:axId val="66652540"/>
      </c:barChart>
      <c:catAx>
        <c:axId val="838487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52540"/>
        <c:crosses val="autoZero"/>
        <c:auto val="1"/>
        <c:lblAlgn val="ctr"/>
        <c:lblOffset val="100"/>
        <c:noMultiLvlLbl val="0"/>
      </c:catAx>
      <c:valAx>
        <c:axId val="66652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487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3C1-93AE-4B2A-A4E6-91BD819F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60F3-5810-4524-877A-997CEED5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FF6A-AF0F-4461-9B18-5782817F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356-D311-4AC2-A4A6-1D85C5D3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677F-DD64-481C-83D2-D9EBE074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EAA0-3676-46EC-AA14-3D1AC8F6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4CFF-16BE-49A2-A2DB-5CB85A03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2958-476D-498C-BBBF-267C2EA1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D5D8-0662-4215-BBD5-9C74C3F7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2CD2-5A4E-42CD-B77F-B7199C31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BB1-D5D9-4342-81D6-45BC0E28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F6F-261C-4A8A-9E17-FF8911E9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91C6D-6014-4FB9-8345-E451D4DA7E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