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7824"/>
        <c:axId val="68088385"/>
      </c:barChart>
      <c:catAx>
        <c:axId val="76478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88385"/>
        <c:crosses val="autoZero"/>
        <c:auto val="1"/>
        <c:lblAlgn val="ctr"/>
        <c:lblOffset val="100"/>
        <c:noMultiLvlLbl val="0"/>
      </c:catAx>
      <c:valAx>
        <c:axId val="68088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78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E42-5EEE-4A0C-B612-7D01B73A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0031-986A-4D99-95AD-5BA86C3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8AB-826A-4C32-A675-A53A29CCD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7F7-297F-4D2B-900B-96252EFC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EB9-EFC9-46C5-96A0-846622B2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55A-B1AB-43F9-A10C-F5D9B242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1A6-84C6-494F-85B5-0C636FFD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ED0-35C7-499C-B190-B9B4891F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BD3-9762-41DC-80A0-C6A718DA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CDC-24F0-4287-9A18-73D84C7C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8913-23FB-44D3-AFFB-55A492E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7B0-CD6B-4593-B0B0-401CFE03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BD265-2272-4AFE-AFCB-1211C21893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