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80805"/>
        <c:axId val="19889560"/>
      </c:barChart>
      <c:catAx>
        <c:axId val="37080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89560"/>
        <c:crosses val="autoZero"/>
        <c:auto val="1"/>
        <c:lblAlgn val="ctr"/>
        <c:lblOffset val="100"/>
        <c:noMultiLvlLbl val="0"/>
      </c:catAx>
      <c:valAx>
        <c:axId val="19889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80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10D4-EB42-4ECE-A3AF-CCDBF867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728F-C686-4DA7-A419-D517B15E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6E07-72BA-4A2F-935B-7D35D7B4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FFF0-A8B1-4693-9C69-BC448101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C8D-6189-4540-8391-2FC87A34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15A-EECE-4470-9752-94B3ACC4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82E-C2EE-4F79-ABCB-667C1B66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24D-5BE4-45D6-8D45-0BDB9A34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D589-50E0-4906-B95B-4F3887DC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3101-BBA7-4379-B716-5E1583DA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61F7-BC83-4B57-A067-6E9991DD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88EA-B913-4E75-8D9E-5FFCED0C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FD288-23A2-4F4E-8E04-D019944F61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